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A5E-25B4-4070-8D35-302499E7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654-4524-48B0-BF81-BBE1DCA7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6CE-5C8E-4194-A238-8DBA3A4B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803-F560-469F-9175-A72658DF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307A-FAFD-4EA7-8A7B-5ADD133F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0D30-16C8-415E-9035-1DB28D9D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D22F-57FD-4F49-BB65-BA4D4C44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425-AB01-4149-AD13-B6475663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32B-8081-4229-8D25-821727A0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80640" y="0"/>
            <a:ext cx="7705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8AF2-9E3F-40D1-9B64-94F105F9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7A1D-4742-41EC-89E4-8710000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A28-A94E-4FA8-83DE-A65F981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835A-E64D-4258-AE01-B492B84A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FB92-F8F4-4B12-A155-7D12C8D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BC6-43FE-454D-8A2A-B0079069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0BA8-D200-4F4B-AED3-02B31DAE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2476-6542-4405-A55E-7F60665A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1A56-516B-4988-8564-37BE789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CD0B-17E6-448E-817A-75115D52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CFDD-1C48-4FC7-9867-E6A3BA8D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1685-7D96-4B82-93FF-441DF05F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C3BB-0A05-4BF3-9329-D413FE55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CB4-45FD-4326-933A-012CD726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80640" y="0"/>
            <a:ext cx="7705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C62B-ADCE-4250-A917-13641563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4C8B-C416-44F1-9AAB-4C79CC3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C976-1958-4706-AB11-EA32E8AC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7840-DF76-4C2B-932B-3785A60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A3E9-44C4-4032-A4CC-95893FF3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6048-83A1-4392-894A-50702424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F637-3595-4C82-9948-1DFCEB35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7A9-3A0C-44F6-89AA-B505D3E4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A43-D2A4-4555-8D14-ADCFF90F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80640" y="0"/>
            <a:ext cx="7705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F19-3DCF-4B89-99F8-296032E4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AF6-D449-4593-96B8-818A19D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FFB-D9AF-4636-B1CB-AAA6A09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03D-D8A5-47F9-A2BF-61AD77F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ate Placeholder 3"/>
          <p:cNvSpPr/>
          <p:nvPr/>
        </p:nvSpPr>
        <p:spPr>
          <a:xfrm>
            <a:off x="434520" y="547488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/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oter Placeholder 4"/>
          <p:cNvSpPr/>
          <p:nvPr/>
        </p:nvSpPr>
        <p:spPr>
          <a:xfrm>
            <a:off x="3101400" y="5474880"/>
            <a:ext cx="2895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Slide Number Placeholder 5"/>
          <p:cNvSpPr/>
          <p:nvPr/>
        </p:nvSpPr>
        <p:spPr>
          <a:xfrm>
            <a:off x="6530400" y="63342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C459C43C-B667-4F91-9D4E-74B452AAED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Nasa-logo.gif"/>
          <p:cNvPicPr/>
          <p:nvPr/>
        </p:nvPicPr>
        <p:blipFill>
          <a:blip r:embed="rId2"/>
          <a:stretch/>
        </p:blipFill>
        <p:spPr>
          <a:xfrm>
            <a:off x="205920" y="70560"/>
            <a:ext cx="774360" cy="663120"/>
          </a:xfrm>
          <a:prstGeom prst="rect">
            <a:avLst/>
          </a:prstGeom>
          <a:ln w="0">
            <a:noFill/>
          </a:ln>
        </p:spPr>
      </p:pic>
      <p:sp>
        <p:nvSpPr>
          <p:cNvPr id="4" name="TextBox 7"/>
          <p:cNvSpPr/>
          <p:nvPr/>
        </p:nvSpPr>
        <p:spPr>
          <a:xfrm>
            <a:off x="0" y="4232520"/>
            <a:ext cx="9143640" cy="264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7bff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1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20"/>
          <p:cNvSpPr/>
          <p:nvPr/>
        </p:nvSpPr>
        <p:spPr>
          <a:xfrm>
            <a:off x="7390440" y="6553080"/>
            <a:ext cx="1819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ddard Earth Sc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 Information Services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6226200"/>
            <a:ext cx="9143640" cy="38052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3526560"/>
            <a:ext cx="7314840" cy="3276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" name="TextBox 19"/>
          <p:cNvSpPr/>
          <p:nvPr/>
        </p:nvSpPr>
        <p:spPr>
          <a:xfrm>
            <a:off x="8183160" y="6394680"/>
            <a:ext cx="96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Bodoni MT Black"/>
              </a:rPr>
              <a:t>GES –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lowchart: Document 37"/>
          <p:cNvSpPr/>
          <p:nvPr/>
        </p:nvSpPr>
        <p:spPr>
          <a:xfrm>
            <a:off x="6324480" y="4212360"/>
            <a:ext cx="2819160" cy="2590560"/>
          </a:xfrm>
          <a:prstGeom prst="flowChartDocumen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824040"/>
            <a:ext cx="9143640" cy="4536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BB6C22-8992-4893-9684-1EAA0458C9D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34520" y="547488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/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01400" y="5474880"/>
            <a:ext cx="2895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30400" y="63342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1347A1CF-56D0-442C-A06E-D96F8B9CA0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Nasa-logo.gif"/>
          <p:cNvPicPr/>
          <p:nvPr/>
        </p:nvPicPr>
        <p:blipFill>
          <a:blip r:embed="rId2"/>
          <a:stretch/>
        </p:blipFill>
        <p:spPr>
          <a:xfrm>
            <a:off x="205920" y="70560"/>
            <a:ext cx="774360" cy="663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0" y="4232520"/>
            <a:ext cx="9143640" cy="264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7bff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1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7390440" y="6553080"/>
            <a:ext cx="1819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ddard Earth Sc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 Information Services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6226200"/>
            <a:ext cx="9143640" cy="38052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3526560"/>
            <a:ext cx="7314840" cy="3276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8183160" y="6394680"/>
            <a:ext cx="96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Bodoni MT Black"/>
              </a:rPr>
              <a:t>GES –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Document 37"/>
          <p:cNvSpPr/>
          <p:nvPr/>
        </p:nvSpPr>
        <p:spPr>
          <a:xfrm>
            <a:off x="6324480" y="4212360"/>
            <a:ext cx="2819160" cy="2590560"/>
          </a:xfrm>
          <a:prstGeom prst="flowChartDocumen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0" y="824040"/>
            <a:ext cx="9143640" cy="4536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2ED083-C930-4346-8772-187B3DB8731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34520" y="547488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/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01400" y="5474880"/>
            <a:ext cx="2895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30400" y="63342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803E0A20-CA88-423F-967C-A7DE1A9AC8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Nasa-logo.gif"/>
          <p:cNvPicPr/>
          <p:nvPr/>
        </p:nvPicPr>
        <p:blipFill>
          <a:blip r:embed="rId2"/>
          <a:stretch/>
        </p:blipFill>
        <p:spPr>
          <a:xfrm>
            <a:off x="205920" y="70560"/>
            <a:ext cx="774360" cy="663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0" y="4232520"/>
            <a:ext cx="9143640" cy="264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7bff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1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7390440" y="6553080"/>
            <a:ext cx="1819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ddard Earth Sc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 Information Services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6226200"/>
            <a:ext cx="9143640" cy="38052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3526560"/>
            <a:ext cx="7314840" cy="3276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183160" y="6394680"/>
            <a:ext cx="96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Bodoni MT Black"/>
              </a:rPr>
              <a:t>GES –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owchart: Document 37"/>
          <p:cNvSpPr/>
          <p:nvPr/>
        </p:nvSpPr>
        <p:spPr>
          <a:xfrm>
            <a:off x="6324480" y="4212360"/>
            <a:ext cx="2819160" cy="2590560"/>
          </a:xfrm>
          <a:prstGeom prst="flowChartDocumen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824040"/>
            <a:ext cx="9143640" cy="4536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3E6E70-F4D1-454B-BF92-17796D94033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iki.earthdata.nasa.gov/display/CMR/Relevancy+Ranking+of+Data+Collections" TargetMode="External"/><Relationship Id="rId2" Type="http://schemas.openxmlformats.org/officeDocument/2006/relationships/hyperlink" Target="https://wiki.earthdata.nasa.gov/display/CMR/Relevancy+Ranking+of+Data+Collections" TargetMode="External"/><Relationship Id="rId3" Type="http://schemas.openxmlformats.org/officeDocument/2006/relationships/hyperlink" Target="https://wiki.earthdata.nasa.gov/display/CMR/Relevancy+Ranking+of+Data+Collections" TargetMode="External"/><Relationship Id="rId4" Type="http://schemas.openxmlformats.org/officeDocument/2006/relationships/hyperlink" Target="https://wiki.earthdata.nasa.gov/display/CMR/Relevancy+Ranking+of+Data+Collections" TargetMode="External"/><Relationship Id="rId5" Type="http://schemas.openxmlformats.org/officeDocument/2006/relationships/hyperlink" Target="https://wiki.earthdata.nasa.gov/display/CMR/Relevancy+Ranking+of+Data+Collections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ixing Dataset Sear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852800"/>
            <a:ext cx="64004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8b8b8b"/>
                </a:solidFill>
                <a:latin typeface="Calibri"/>
              </a:rPr>
              <a:t>Chris Ly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8b8b8b"/>
                </a:solidFill>
                <a:latin typeface="Calibri"/>
              </a:rPr>
              <a:t>GES D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piphany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684000" y="1013400"/>
            <a:ext cx="818568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e Slipped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because users would rather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EARCH WI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reetext keywords, that doesn’t mean we have to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IND B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reetext metho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5724.jpg"/>
          <p:cNvPicPr/>
          <p:nvPr/>
        </p:nvPicPr>
        <p:blipFill>
          <a:blip r:embed="rId1"/>
          <a:stretch/>
        </p:blipFill>
        <p:spPr>
          <a:xfrm>
            <a:off x="3688200" y="5210640"/>
            <a:ext cx="12697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evancy Heur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3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ttempt to return datasets in the most relevant order, giv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words provided by 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ly user intent, inferred 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iric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.B.: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 heuristic works for every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trying to make as many users happ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Content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55440" y="1452960"/>
            <a:ext cx="902484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ch in measurement/parameter/GCMD specific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ch in any oth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zone as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zone in “Ozone Monitoring Instru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Content “Noun”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1871640" y="1452960"/>
            <a:ext cx="539172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uns” in a Measuremen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ifiers in a Measuremen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zone” in “Total Column Oz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tal” in “Total Column Oz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Version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904840" y="1257840"/>
            <a:ext cx="332496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e Recen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 Recen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LS Whatever V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LS Whatever V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e Range Coverage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020600" y="1452960"/>
            <a:ext cx="709380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e Range Coverage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 of Search Date Range covered by the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: want Oct 2007 to Oct 2014 (8 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: got 2004 – 2012 (2007-2012 = 6 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= 6/8 =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se of Use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2240" y="1208880"/>
            <a:ext cx="71442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ing Level as a Prox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4 – model, ergo gridded + usually gap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3 – nicely gri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2 – processed to physical variables but tricky to map and interpret quality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1 – Do-it-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0 – Science teams only (or mos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’s New” Heuristic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809800" y="1452960"/>
            <a:ext cx="351576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wer data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e usually better t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der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013840" y="5214240"/>
            <a:ext cx="4978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Resonates with people’s Recency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rics-based Heur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4760" y="13071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opularity over last N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itations over last N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ive popularity…not so m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s Who Bought This Item Also Bough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ther Items Do Customers Buy After Viewing This Item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.B.:  You have to get to and select a relevant item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r Type and Intent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56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search words (“Rain” + “Landslides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s from Portals or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* portals/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portals/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Jargon or Technical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OD, SST, L2, OMI, SNPP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783000" y="6141960"/>
            <a:ext cx="5823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Applications like “Landslide Prediction”, not like “MS Off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12200" y="932400"/>
            <a:ext cx="8404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it to weight or otherwise modify previous heu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 Experimen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Content Placeholder 6"/>
          <p:cNvGraphicFramePr/>
          <p:nvPr/>
        </p:nvGraphicFramePr>
        <p:xfrm>
          <a:off x="1108800" y="2524680"/>
          <a:ext cx="7008840" cy="1483200"/>
        </p:xfrm>
        <a:graphic>
          <a:graphicData uri="http://schemas.openxmlformats.org/drawingml/2006/table">
            <a:tbl>
              <a:tblPr/>
              <a:tblGrid>
                <a:gridCol w="1817280"/>
                <a:gridCol w="934560"/>
                <a:gridCol w="1134720"/>
                <a:gridCol w="928440"/>
                <a:gridCol w="1073880"/>
                <a:gridCol w="11196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alse 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alse N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C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i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7"/>
          <p:cNvSpPr/>
          <p:nvPr/>
        </p:nvSpPr>
        <p:spPr>
          <a:xfrm>
            <a:off x="1692000" y="1062360"/>
            <a:ext cx="6132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for “Ozone” data distributed by GES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vant = dataset-actually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921680" y="4622760"/>
            <a:ext cx="426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cision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levant ∩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ieved            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316960" y="5411520"/>
            <a:ext cx="3872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all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levant ∩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vant            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 We Ne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99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rank CMR dataset results according to heu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client-selectable heuristics and sc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experiment with ranking schemes against CMR 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re researchers to develop ranking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forum for developing additional methods for ranking and modeling user i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cus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35040" y="2067840"/>
            <a:ext cx="8157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White Paper,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iki.earthdata.nasa.gov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display/CMR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Relevancy+Ranking+of+Data+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p 10: GCM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449280" y="965160"/>
            <a:ext cx="75848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Hydroperoxy (HO2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Hydroxyl (OH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Nitric Acid (HNO3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Water Vapor (H2O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Hydrogen Chloride (HCl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Nitrous Oxide (N2O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S/Aura Level 2 Ozone (O3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Chlorine Monoxide (ClO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Carbon Monoxide (CO) Mixing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p 10: ECH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14480" y="946080"/>
            <a:ext cx="90291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Formaldehyde (HCHO) Total Column Global 0.25deg Lat/L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qua AIRS Level 3 Daily Standard Physical Retrieval (AIRS-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OMI/Aura Zoom-in Ground Pixel Corners 1-Orbit L2 Swath 13x12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MLS/Aura Near-Real-Time L2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OMI/Aura NO2 Cloud-Screened Total and Tropospheric Column Daily L3 Global 0.25deg Lat/L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ARS Improved Stratospheric and Mesospheric Sounder (ISAMS) Level 3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ARS Cryogenic Limb Array Etalon Spectrometer (CLAES) Level 3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16 Ozone (O3) Nadir Profile and Total Column Daily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TOMS/Earth Probe UV Reflectivity Monthly L3 Global 1x1.25 deg Lat/L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A DAILY GRIDS from NOAA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0640" y="-36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p 10: Mirad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5360" y="1006920"/>
            <a:ext cx="900828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Total Column 1-Orbit L2 Swath 13x2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DOAS Total Column Ozone Zoomed 1-Orbit L2 Swath 13x12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Total Column Daily L2 Global 0.25 deg Lat/Lon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/Nimbus-7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09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11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16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DOAS Total Column Daily L2 Global 0.25 deg Lat/Lon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DOAS Total Column 1-Orbit L2 Swath 13x24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ZCARDS Source Data for Ozone Monthly Zonal Means on a Geodetic Latitude and Pressure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2170440" y="4512960"/>
            <a:ext cx="4976280" cy="191844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  <a:effectLst>
            <a:glow rad="101520">
              <a:srgbClr val="c4bd97">
                <a:alpha val="75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, but still not that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2G &gt;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-EOS &gt; EOS (#4-#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ty product (Zoomed) &gt;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piphany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94600" y="2478960"/>
            <a:ext cx="7621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adbcd8"/>
                </a:solidFill>
                <a:latin typeface="Calibri"/>
              </a:rPr>
              <a:t>So </a:t>
            </a:r>
            <a:r>
              <a:rPr b="1" lang="en-US" sz="5400" spc="-1" strike="noStrike" u="sng">
                <a:solidFill>
                  <a:srgbClr val="adbcd8"/>
                </a:solidFill>
                <a:uFillTx/>
                <a:latin typeface="Calibri"/>
              </a:rPr>
              <a:t>That’s</a:t>
            </a:r>
            <a:r>
              <a:rPr b="1" lang="en-US" sz="5400" spc="-1" strike="noStrike">
                <a:solidFill>
                  <a:srgbClr val="adbcd8"/>
                </a:solidFill>
                <a:latin typeface="Calibri"/>
              </a:rPr>
              <a:t> Why Users Hate on 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evancy Ran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141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mplementing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goo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relevancy ranking may be the single most important thing we could do to improve our sear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Relev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3920" y="1099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what made Google fam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ically, Google’s PageRank does not work well for dataset “document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OH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ACs and EOSDIS have been helping users select data for &gt; 2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know by now what users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5</TotalTime>
  <Application>LibreOffice/7.4.7.2$Linux_X86_64 LibreOffice_project/40$Build-2</Application>
  <AppVersion>15.0000</AppVersion>
  <Words>1134</Words>
  <Paragraphs>170</Paragraphs>
  <Company>NASA / GSF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1:35:02Z</dcterms:created>
  <dc:creator>Christopher Lynnes</dc:creator>
  <dc:description/>
  <dc:language>en-US</dc:language>
  <cp:lastModifiedBy>Christopher Lynnes</cp:lastModifiedBy>
  <dcterms:modified xsi:type="dcterms:W3CDTF">2014-11-14T22:45:21Z</dcterms:modified>
  <cp:revision>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1</vt:r8>
  </property>
</Properties>
</file>